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whoosh.wav" ContentType="audio/x-wav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AAEF-200C-4557-A1E5-6782A9E1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E7DF-4C90-443F-87BC-91F8B4BE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DA3-988C-4C6A-B616-2AF0AC42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41AC-1EB8-4A21-B84F-9D258163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2FE5-F6F8-4AB5-980C-C1AB0AF5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7DC-8D63-45E8-909A-D2CB4E0E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D95-19EA-481F-94E1-368F8CE5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5BB3-5BEC-41C6-A019-581E07E0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0D3-9A02-484F-9A20-370372DD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B86-D6A8-4FF6-A960-49C5BE83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15B-93BE-42CB-8C54-3554C1C4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845-A29F-488E-97CA-A4B234CC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E23E-1A79-4242-848F-D46F0FA1E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thods of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Observations and Recor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ative Data – data based on observations (not measured); written descri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 bubbles formed, the color change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ing animal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Observations and Recor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tative Data – numerical data; gives an amount or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98.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, 36 kg, 6’10’’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e &amp; Analyze Da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data into charts and graphs to represent tren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to visualize possible relationships—however, can be created to show relationships that don’t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324480" y="4430880"/>
            <a:ext cx="243864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Results – State a 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hypothesis is published because several experiments have supported it, is the work complet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, it needs repeat testing with lots of data by 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tists - large numbers reduce the chances of error &amp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more reliabl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Communicate Your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 your findings so that other scientists can use your results to further their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ys to Commun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u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Results – State a 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f a hypothesis is not disproved by other scientists after much testing, it may become a the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 – a broad, general explanation about the natural world based on the results of many experiments-----best explanation for the facts currently availa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ies are not fac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e of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ience &amp;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ce (Pure Science)– a body of knowledge gathered through experiences; facts about the natural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of solving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 Biology, chemistry, geology, zo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y – applied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s theoretical information to practical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life easier, helps solv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 Agriculture, medicine, engineer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s, TV’s, micro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77120" y="304920"/>
            <a:ext cx="2313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ience vs.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ce is a process in which we solve problems and </a:t>
            </a:r>
            <a:r>
              <a:rPr b="0" lang="en-US" sz="3200" spc="-1" strike="noStrike" u="sng">
                <a:solidFill>
                  <a:srgbClr val="c22dc2"/>
                </a:solidFill>
                <a:uFillTx/>
                <a:latin typeface="Times New Roman"/>
              </a:rPr>
              <a:t>learn something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y is the development of products based on scientific knowledge – </a:t>
            </a:r>
            <a:r>
              <a:rPr b="0" lang="en-US" sz="3200" spc="-1" strike="noStrike" u="sng">
                <a:solidFill>
                  <a:srgbClr val="c22dc2"/>
                </a:solidFill>
                <a:uFillTx/>
                <a:latin typeface="Times New Roman"/>
              </a:rPr>
              <a:t>make something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builds on the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e the problem/Ask a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have some sort of question or problem you want to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ly based on an 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Why are my Goldfish dy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8288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 of Scientific Knowledge &amp;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-  medical equipment, computers, materials, prescription drugs, entertainment, car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 – overpopulation, pollution, nuclear weapons, food shortages, depletion of natural resourc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00200" y="4952880"/>
            <a:ext cx="2076480" cy="1467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867280" y="4724280"/>
            <a:ext cx="24415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itations of Sc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needed equipment, skills, or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of tools – how accurate – how does i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ical/moral questions - should it be d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tical/Legal fact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867280" y="4800600"/>
            <a:ext cx="203220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a Good Scient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uri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sks questions, wants to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give up, persistent (rete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rv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ep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3875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ce litera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scien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referenc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39751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 a Hypo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hesis - A possible answer to a scientific question based on the facts already known - more than an educated gu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 I think my fish are dying because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 their tank with bl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 an Experi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 - a process to test a hypothe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ontrolled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 set up 2 identical tanks and clean 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bleach and one with water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 an Experi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variable - the variable that is though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responsible for having 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 variable being tes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 Bleach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 an Experi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t variable - the variable that is measured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peri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ame in both grou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  Fish death/survival r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 Control – the group which has no varia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 Tank that was not cleaned with bl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 Why is a control necess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comparison to see if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variable had any influ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0:00:44Z</dcterms:created>
  <dc:creator> </dc:creator>
  <dc:description/>
  <dc:language>en-US</dc:language>
  <cp:lastModifiedBy>NHS NPS</cp:lastModifiedBy>
  <dcterms:modified xsi:type="dcterms:W3CDTF">2013-09-06T16:01:04Z</dcterms:modified>
  <cp:revision>20</cp:revision>
  <dc:subject/>
  <dc:title>Chapter 1 Outline</dc:title>
</cp:coreProperties>
</file>